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32B7-2CD1-45FA-80A2-5091309D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291-C3F9-4FDC-A058-4DA35D7D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A97-24A5-4B07-90EE-993CFA28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2CA-87EE-4FFE-A83B-0543F45F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F00-69C6-4F4B-A6DF-9AB84D18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AC2-2049-4AE6-A868-FA0BCBA9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6B4-C055-4345-A1E5-E3ACBE66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F48-307A-4F7A-96C3-6C2382F0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C65-3D46-436D-B54B-0FDA1046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0EE-6393-4077-BD34-0C0CC18D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582-7625-4CA7-AAF9-A664CA7A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73D-7D5C-4460-ABAA-D262E66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C18-7E07-4DB5-B614-C20004A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116-8CEF-450E-AF08-9508E1E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5D52-C7CE-4693-A455-42A9F7B8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en la manana para pasar todo la dia ju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 cuando y dond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 pues clar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ay pues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6:33Z</dcterms:modified>
  <cp:revision>107</cp:revision>
  <dc:subject/>
  <dc:title>Profile</dc:title>
</cp:coreProperties>
</file>